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A6E-AA58-4BDC-A7BA-4D8FF2E1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3C3-78A2-4DF9-AC26-EB9D9BFA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213-0B92-448A-A275-94E8BF16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F8B-99B2-427E-B7D6-9805E513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EBC7-7961-47EE-8300-219A686C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1972-F3D0-4EA4-9E45-92E4CBE1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E35C-173F-43BE-A093-AF34D9EE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5E89-8B7F-40EC-B59B-AC25E497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5497-961E-465C-85DD-9CFF2395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645F-4555-4532-A41C-BB1F0F00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4A61-2719-4971-82C2-7729F88E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B6E-54C5-43FF-9286-87FA3678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0A58-A5F9-43F2-9082-1B613A51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1424-5BBF-4C89-B39B-A8F7C3B1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1578-4281-4F6D-948B-0CDD88BE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061D-9B54-4F17-A03C-B0394922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23AE-36AF-458F-BB22-83A674C8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925CD-1F34-4787-A0B5-F39F3D81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15F1F-476F-4AA5-A6BD-AEAF76FB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737F-AB42-434F-9BD9-509870A6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D94AA-73A0-4A6C-B82A-425EE315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80B65-466E-41D6-88BF-D0FACD9F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D97-DD95-4492-A218-6A5AAF79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BFDF4-7650-4C90-A5CB-95868327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A6165-7455-48EC-B802-766896B0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0B39C-2D0D-48CE-84F7-D04D2FA6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F50A6-9FF2-4529-BBFF-7546DE0F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AB0A-80A3-4391-B4B7-A43E9DA8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289D-4001-47D0-B8A5-1F8E9E98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89F3-FE6A-47D3-B358-77F1A3BF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A40DF-E02B-44F0-8A6D-41556BC9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A11E0-B0CB-4CBB-8E7D-7CFC25E3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72058-CAEB-4EEF-B7F8-99A4DE3F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856-C94A-4300-AEF3-43CA9EF5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E6BF3-48CF-48B5-9F0C-4B37B42E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49832-64A1-4017-9BC9-0408C306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D9612-0E6C-4836-A667-F169C635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8DD47-1074-416C-9F0C-E8E5CE57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D3C6B-444E-4776-9396-F1E72168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E5E64-76D1-49B6-BD88-58CF300D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96E3-F8BA-4330-B9C4-DC820A5F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290FA-86F9-4C42-812C-B52848D1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E54E3-294D-432F-A3F7-E65D3FC1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292B0-843D-4365-9E82-FF8B94B9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2A7-404D-4A04-9EFD-BFA079E4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54F1D-F2CE-42AC-A679-F6BE3540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90502-4666-47FE-A66B-1F008DD6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4B2C3-98E3-4C90-8650-721B1B41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D119C-B51F-4013-A6F1-32381322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2A0AE-9F41-45CD-B426-0F22A616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B5F53-EB86-4491-91B0-21B23C78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FEECF-9467-43A6-B9B1-D2CC175F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FC986-EF11-47E2-92D1-63EF9D64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B12B4-699B-4E95-BC9D-D9DCABCD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55F9C-285B-41EF-8ABE-C7BC8010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75A-BA2B-4606-B1D1-A9B62534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8835C-187D-40C2-9E39-A6C3EDE3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41061-DD60-4292-9668-17809163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4B531-E140-4E8B-A23D-EEDD380E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EFB9C-F718-4848-B7C1-42A42AF7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AAAFB-E343-4B78-ADF9-F1E2F2A3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CAD5C-1C6F-441B-AE78-635EC4CF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6A98E-D69C-4135-B7AA-BEE2614E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B90AE-B066-493F-9A41-802D63CA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B16D6-9416-4EAB-8683-262037B8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C7FA3-3D13-4606-8D96-118D0016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F91-7C33-4EB9-84B3-0F441214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EF105-0433-4AD3-8432-DB6E4576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AAFC3-CBAB-4F37-B413-3D2A093B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12BF8-4274-49F6-AF1F-84C25563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6C44E-188C-4E2D-9A77-720A29BD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CF2EE-3723-4CBC-9DBF-B7073A81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18A3D-EC2C-4339-BD77-CE8800D8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55D5D-E5B0-4C85-8C5D-A5726AAD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8D25A-62DD-4ADA-BCAF-2343C396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D8BEC-1D0E-4833-9700-2C338B93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BE7D7-4EF3-4893-BD78-078801AF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34B-A0A8-4426-8589-66A452A5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1A3AF-CB2C-4713-9AD6-763185F8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47A5E-D257-46AD-885D-0DA92418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3A747-CDFF-4F0E-9144-B5F7A940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C0921-B0AE-4A39-9C21-94402ED6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B306B-D010-40D6-B215-6BA24751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12093-DB1A-4A78-8653-709DCD77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E3F67-2A88-42D9-8340-BA5ED232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188A1-7CC6-4140-9F14-9A293EF3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E8C85-DAA8-41D4-9AF8-B8D26C1F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48DEA-C1BE-4518-B31F-5EF506CB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1817-B2F6-4EAA-B023-AE997B92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09D84-4D37-4DAE-B8F0-22F671DC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3AC74-DC25-4696-9224-7D99902D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D65F8-90A5-4B66-AFAA-85F87730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FC7A5-23FE-4E85-98DC-83D8A95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BCCFC-249A-47C4-8FDC-FB52A5D9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2225A-3B64-40B6-AAF8-D2C303ED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66342-B85B-441A-93FA-14AA69C5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2E48-E63A-4442-9C85-151CE8ECCFF6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1890-AC81-4C0F-B1F7-F593B8E5B0E3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7376-A55E-472A-A0FB-5F17EB92FA58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0986-5401-4D23-A767-895240C40256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5E59-123F-4D41-B27B-A269F6BBF1EE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7C5B-D2E2-4494-8D48-499AFDF0FE35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31A0-CF0A-48BA-8ED6-0AA9686DFA0C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445B-0BF6-4B67-BEB6-028FBB9C09A0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¡AY, CARAMBA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595959"/>
                </a:solidFill>
                <a:latin typeface="Garamond"/>
              </a:rPr>
              <a:t>Juego para 1.1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ú (veci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ú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ere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vecina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o (muchach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o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so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muchacha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Vosotros (doctore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Vosotros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soi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octores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GUSTA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ú: bailar (no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te gusta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aila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¡AY, CARAMBA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teal other team’s points!!!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GUSTA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o: trabajar (sí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Me gusta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rabaja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GUSTA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lla: Cantar (no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lla no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le gusta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anta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GUSTA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ra. Swift: leer (sí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a Sra. Swift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le gusta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ee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ACTICE WITH SUBJECT PRONOU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59146200">
              <a:lnSpc>
                <a:spcPct val="15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Ana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indent="59146200">
              <a:lnSpc>
                <a:spcPct val="150000"/>
              </a:lnSpc>
              <a:spcBef>
                <a:spcPts val="13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Ella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ACTICE WITH SUBJECT PRONOU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59146200">
              <a:lnSpc>
                <a:spcPct val="15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Francisco y yo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indent="59146200">
              <a:lnSpc>
                <a:spcPct val="150000"/>
              </a:lnSpc>
              <a:spcBef>
                <a:spcPts val="13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Nosotros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92350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ra. McDonald y Sra. Anderson (maestra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92350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a Sra. McDonald y la Sra. Anderson son maestra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ACTICE WITH SUBJECT PRONOU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80936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Alma y tú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indent="8093664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Ustedes (Uds.) 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vosotro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¡AY, CARAMBA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100652040">
              <a:lnSpc>
                <a:spcPct val="15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teal other team’s points!!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ACTICE WITH SUBJECT PRONOU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59146200">
              <a:lnSpc>
                <a:spcPct val="15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Julia y Marta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indent="59146200">
              <a:lnSpc>
                <a:spcPct val="150000"/>
              </a:lnSpc>
              <a:spcBef>
                <a:spcPts val="13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Ellas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¡AY CARAMBA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teal other team’s points!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ACTICE WITH SUBJECT PRONOU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59146200">
              <a:lnSpc>
                <a:spcPct val="15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Mi maestro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indent="59146200">
              <a:lnSpc>
                <a:spcPct val="150000"/>
              </a:lnSpc>
              <a:spcBef>
                <a:spcPts val="13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Él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ú y un chico (vecino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ú y un chico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son o soi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vecino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975391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a muchacha y yo (estudiante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975391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a muchacha y yo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somo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studiante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a mujer y un hombre (amigo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a mujer y un hombre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s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migo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ú y yo (policía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ú y yo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somo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olicía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¡AY, CARAMBA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teal other team’s points!!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ris Hilton y Lindsey Lohan (amiga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94426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ris Hilton y Lindsey Lohan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s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miga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ted (maestro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ted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e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estro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3:31:20Z</dcterms:created>
  <dc:creator>Prine, Stephanie</dc:creator>
  <dc:description/>
  <dc:language>en-US</dc:language>
  <cp:lastModifiedBy>Prine, Stephanie</cp:lastModifiedBy>
  <dcterms:modified xsi:type="dcterms:W3CDTF">2013-09-26T15:22:39Z</dcterms:modified>
  <cp:revision>9</cp:revision>
  <dc:subject/>
  <dc:title>¡Ay, caramba!</dc:title>
</cp:coreProperties>
</file>